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360-DF35-438F-990C-D164E16E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861-25C5-4D0D-BCF3-0DCAB9C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FB5-A405-4600-A6D0-8B679679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AC2-1226-4784-ABDF-84712CD3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61A-C7FF-4135-9005-E5749E70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98AC-9D98-43C6-969C-E95B2794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F59-9ADA-4727-9CB2-AFE635EE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011-A7FD-42E6-986E-FABE932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297-3832-40A9-AC4B-7D274A07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40A-7DF8-4C04-A52B-48A6644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FF1-E30E-49C2-AC4A-4396D0C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461-4352-4E9A-B26D-5D2A5DE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723-0ABA-41F6-B420-728C0068C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p-medien.com/" TargetMode="External"/><Relationship Id="rId2" Type="http://schemas.openxmlformats.org/officeDocument/2006/relationships/hyperlink" Target="mailto:cipmedien@aol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4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dementiellem 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560" y="114300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 Liegt eine Demenz vor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8000" y="135396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2960" y="1574640"/>
            <a:ext cx="294192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-Befund Gedächtnisstörung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iese betreffen in erster Linie das Immediat- und Kurzzeitgedächtnis, in fortgeschrittenen Stadien auch das Langzeitgedächtnis. Auch eine Orientierungsstörung findet sich häufig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1 –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47880" y="2543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0400" y="2957400"/>
            <a:ext cx="251460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elt es sich bei den Gedächtnisstörungen um die einzigen klinisch relevanten Sympto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895480"/>
            <a:ext cx="25146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eht vor allem eine Störung des Kurzzeitgedächtnisses, eine retrograde und anterograde Amnesie und eine Zeitgitterstörung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781440"/>
            <a:ext cx="251460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xistiert ein objektiver oder anamnestischer Nachweis einer Hirnerkrankung oder eines Insult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6640" y="4467240"/>
            <a:ext cx="259092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as Immediatgedächtnis nachweislich ungestört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76640" y="6257880"/>
            <a:ext cx="25909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eine Verursachung der Gedächtnisstörungen durch den Konsum psychotroper Substanz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088040"/>
            <a:ext cx="12193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04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organisches amnestisches Synd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7095960"/>
            <a:ext cx="121932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1x.6*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mnestisches Syndrom durch psychotrope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7" idx="3"/>
            <a:endCxn id="48" idx="1"/>
          </p:cNvCxnSpPr>
          <p:nvPr/>
        </p:nvCxnSpPr>
        <p:spPr>
          <a:xfrm flipV="1">
            <a:off x="3105000" y="3124800"/>
            <a:ext cx="101016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8" idx="2"/>
            <a:endCxn id="49" idx="0"/>
          </p:cNvCxnSpPr>
          <p:nvPr/>
        </p:nvCxnSpPr>
        <p:spPr>
          <a:xfrm>
            <a:off x="5371920" y="3354480"/>
            <a:ext cx="360" cy="42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2"/>
            <a:endCxn id="50" idx="0"/>
          </p:cNvCxnSpPr>
          <p:nvPr/>
        </p:nvCxnSpPr>
        <p:spPr>
          <a:xfrm>
            <a:off x="5371920" y="4118760"/>
            <a:ext cx="360" cy="3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705200" y="6723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62760" y="6723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5" idx="2"/>
            <a:endCxn id="47" idx="0"/>
          </p:cNvCxnSpPr>
          <p:nvPr/>
        </p:nvCxnSpPr>
        <p:spPr>
          <a:xfrm>
            <a:off x="1843920" y="2520360"/>
            <a:ext cx="3960" cy="43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372960" y="3757680"/>
            <a:ext cx="294192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darüber hinaus eine Abnahme des Denkvermögens nachweis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Diese betrifft in erster Linie Auffassung, Konzentrationsfähigkeit, Urteilsvermögen, Ideenfluß, Informationsverarbeitung und andere höhere kognitive Funktionen.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7 und 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7" idx="2"/>
            <a:endCxn id="60" idx="0"/>
          </p:cNvCxnSpPr>
          <p:nvPr/>
        </p:nvCxnSpPr>
        <p:spPr>
          <a:xfrm flipH="1">
            <a:off x="1843920" y="3294720"/>
            <a:ext cx="3960" cy="46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72960" y="5195880"/>
            <a:ext cx="29419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nten Sie im VDS-Befund darüber hinaus eine deutliche Beeinträchtigung der der Aktivitäten des täglichen Leben nachweis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DS14/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5234040"/>
            <a:ext cx="259092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Verursachung der Gedächtnisstörungen durch ein Delir, eine Demenz, eine Depression oder eine dissoziative Amnesie (vgl. Seite 61)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0" idx="2"/>
            <a:endCxn id="63" idx="0"/>
          </p:cNvCxnSpPr>
          <p:nvPr/>
        </p:nvCxnSpPr>
        <p:spPr>
          <a:xfrm>
            <a:off x="5371920" y="4804560"/>
            <a:ext cx="360" cy="4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3" idx="2"/>
            <a:endCxn id="51" idx="0"/>
          </p:cNvCxnSpPr>
          <p:nvPr/>
        </p:nvCxnSpPr>
        <p:spPr>
          <a:xfrm>
            <a:off x="5371920" y="5814720"/>
            <a:ext cx="36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2"/>
            <a:endCxn id="62" idx="0"/>
          </p:cNvCxnSpPr>
          <p:nvPr/>
        </p:nvCxnSpPr>
        <p:spPr>
          <a:xfrm>
            <a:off x="1843920" y="4703400"/>
            <a:ext cx="3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2960" y="6148440"/>
            <a:ext cx="29419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tehen die Symptome seit wenigstens Sechs Monat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2960" y="6729480"/>
            <a:ext cx="294192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der Verlauf der Störung chronisch-progredien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6200" y="7334280"/>
            <a:ext cx="294156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e Intelligenzminderung (ICD-10 F70 – F71), eine Pseudodemenz bei depressiven Störungen und eine Verursachung der kognitiven Defizite durch gestörte soziale Bedingungen und mangelnde Bildungsmöglichkeiten ausgeschloss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0480" y="8434440"/>
            <a:ext cx="230976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en Bewußtseinseintrübungen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43440" y="7967520"/>
            <a:ext cx="276228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Überprüfen sie das Vorliegen eines Delirs oder Delirs bei Demenz anhand der Seiten 41 und 4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7760" y="8724960"/>
            <a:ext cx="1238400" cy="21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2" idx="2"/>
            <a:endCxn id="67" idx="0"/>
          </p:cNvCxnSpPr>
          <p:nvPr/>
        </p:nvCxnSpPr>
        <p:spPr>
          <a:xfrm>
            <a:off x="1843920" y="5776560"/>
            <a:ext cx="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7" idx="2"/>
            <a:endCxn id="68" idx="0"/>
          </p:cNvCxnSpPr>
          <p:nvPr/>
        </p:nvCxnSpPr>
        <p:spPr>
          <a:xfrm>
            <a:off x="1843920" y="6364080"/>
            <a:ext cx="36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9" idx="0"/>
          </p:cNvCxnSpPr>
          <p:nvPr/>
        </p:nvCxnSpPr>
        <p:spPr>
          <a:xfrm>
            <a:off x="1843920" y="6945120"/>
            <a:ext cx="324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2"/>
            <a:endCxn id="70" idx="0"/>
          </p:cNvCxnSpPr>
          <p:nvPr/>
        </p:nvCxnSpPr>
        <p:spPr>
          <a:xfrm flipH="1">
            <a:off x="1845360" y="8036640"/>
            <a:ext cx="1800" cy="39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1" idx="2"/>
          </p:cNvCxnSpPr>
          <p:nvPr/>
        </p:nvCxnSpPr>
        <p:spPr>
          <a:xfrm flipV="1">
            <a:off x="3000240" y="8304840"/>
            <a:ext cx="2324520" cy="23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2"/>
            <a:endCxn id="72" idx="1"/>
          </p:cNvCxnSpPr>
          <p:nvPr/>
        </p:nvCxnSpPr>
        <p:spPr>
          <a:xfrm flipH="1" rot="16200000">
            <a:off x="2625480" y="7869960"/>
            <a:ext cx="182880" cy="1742760"/>
          </a:xfrm>
          <a:prstGeom prst="bentConnector4">
            <a:avLst>
              <a:gd name="adj1" fmla="val 126035"/>
              <a:gd name="adj2" fmla="val 82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105000" y="2914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47880" y="3300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72280" y="3360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2280" y="4124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72280" y="4809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72280" y="5794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05200" y="672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62760" y="6723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44640" y="4702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4640" y="5783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4640" y="6369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44640" y="6950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8043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8326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47880" y="8655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86240" y="8724960"/>
            <a:ext cx="142884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 auf Seiten 46 - 4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72" idx="3"/>
            <a:endCxn id="94" idx="1"/>
          </p:cNvCxnSpPr>
          <p:nvPr/>
        </p:nvCxnSpPr>
        <p:spPr>
          <a:xfrm>
            <a:off x="4826160" y="8832600"/>
            <a:ext cx="460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17760" y="625788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6257880"/>
            <a:ext cx="0" cy="228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6080" y="6043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530360"/>
            <a:ext cx="2346480" cy="855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ip-medien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ipmedien@aol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67880" y="735120"/>
            <a:ext cx="35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: Liegt eine Demenz bei Alzheimer-Krankheit vor (F00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2027160"/>
            <a:ext cx="21812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g ein schleichender Beginn der Störung mit langsamer Verschlechterung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aller Regel ist der Beginn zeitlich nicht festzumach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360" y="3122640"/>
            <a:ext cx="21812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n Hinweise oder spezielle Untersuchungsbefunde, die auf eine System- oder Hirnerkrankung hinweisen, die eine Demenz verursachen kan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6360" y="4255920"/>
            <a:ext cx="218124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ehlt ein plötzlicher apoplektischer Beginn oder neurologische Herdsymptome wie Hemiparese, Sensibilitätsverlust, Gesichtsfeldausfälle, und Koordinationsstörungen in der Frühphase der Krankheit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In späteren Stadienkönnen diese jedoch dazukomm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360" y="5894280"/>
            <a:ext cx="21812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en zusätzlich Symptome einer vaskulären Demenz vor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Seite 4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3640" y="5884920"/>
            <a:ext cx="218124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0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ypische oder gemischte Demenz bei Alzheimer-Krankh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6360" y="6989760"/>
            <a:ext cx="2181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g der Beginn der Störung vor dem 65. Lebensjah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60" y="7913520"/>
            <a:ext cx="218124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ar die Progredienz vergleichsweise rasch, und liegen vielfältige Störungen höherer kortikaler Funktionen wie Aphasie, Agraphie, Alexie, Apraxie usw. bereits früh im Verlauf der Erkrankung vor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33640" y="6923160"/>
            <a:ext cx="218124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0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Alzheimer-Krankheit mit spätem Begi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3640" y="8028000"/>
            <a:ext cx="218124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0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Alzheimer-Krankheit mit frühem Begi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2"/>
            <a:endCxn id="104" idx="0"/>
          </p:cNvCxnSpPr>
          <p:nvPr/>
        </p:nvCxnSpPr>
        <p:spPr>
          <a:xfrm flipH="1">
            <a:off x="1666080" y="2614320"/>
            <a:ext cx="540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4" idx="2"/>
            <a:endCxn id="105" idx="0"/>
          </p:cNvCxnSpPr>
          <p:nvPr/>
        </p:nvCxnSpPr>
        <p:spPr>
          <a:xfrm>
            <a:off x="1666440" y="3710160"/>
            <a:ext cx="108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5" idx="2"/>
            <a:endCxn id="106" idx="0"/>
          </p:cNvCxnSpPr>
          <p:nvPr/>
        </p:nvCxnSpPr>
        <p:spPr>
          <a:xfrm>
            <a:off x="1666440" y="5331960"/>
            <a:ext cx="108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6" idx="3"/>
            <a:endCxn id="107" idx="1"/>
          </p:cNvCxnSpPr>
          <p:nvPr/>
        </p:nvCxnSpPr>
        <p:spPr>
          <a:xfrm flipV="1">
            <a:off x="2757240" y="6123960"/>
            <a:ext cx="10674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2"/>
            <a:endCxn id="108" idx="0"/>
          </p:cNvCxnSpPr>
          <p:nvPr/>
        </p:nvCxnSpPr>
        <p:spPr>
          <a:xfrm>
            <a:off x="1666440" y="6359040"/>
            <a:ext cx="108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8" idx="3"/>
            <a:endCxn id="110" idx="1"/>
          </p:cNvCxnSpPr>
          <p:nvPr/>
        </p:nvCxnSpPr>
        <p:spPr>
          <a:xfrm>
            <a:off x="2757240" y="7160760"/>
            <a:ext cx="1067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8" idx="2"/>
            <a:endCxn id="109" idx="0"/>
          </p:cNvCxnSpPr>
          <p:nvPr/>
        </p:nvCxnSpPr>
        <p:spPr>
          <a:xfrm>
            <a:off x="1666440" y="7332480"/>
            <a:ext cx="108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3"/>
            <a:endCxn id="111" idx="1"/>
          </p:cNvCxnSpPr>
          <p:nvPr/>
        </p:nvCxnSpPr>
        <p:spPr>
          <a:xfrm flipV="1">
            <a:off x="2757240" y="8267400"/>
            <a:ext cx="1067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1666800" y="2614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57440" y="1390680"/>
            <a:ext cx="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57440" y="3710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1480" y="5332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2280" y="5910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1480" y="6362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62280" y="6946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1480" y="733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62280" y="8053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1600" y="3191040"/>
            <a:ext cx="21524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andere Demenz verursachende Erkrankungen anhand der Seiten 47 – 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2280" y="341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03" idx="3"/>
            <a:endCxn id="129" idx="0"/>
          </p:cNvCxnSpPr>
          <p:nvPr/>
        </p:nvCxnSpPr>
        <p:spPr>
          <a:xfrm>
            <a:off x="2762280" y="2320560"/>
            <a:ext cx="2296080" cy="870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05" idx="3"/>
            <a:endCxn id="129" idx="2"/>
          </p:cNvCxnSpPr>
          <p:nvPr/>
        </p:nvCxnSpPr>
        <p:spPr>
          <a:xfrm flipV="1">
            <a:off x="2757240" y="3655440"/>
            <a:ext cx="2300760" cy="1138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757600" y="4579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57600" y="3205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62280" y="210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02040" y="687240"/>
            <a:ext cx="270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: Liegt eine vaskuläre Demenz vor (F01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1703520"/>
            <a:ext cx="2181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g ein plötzlicher Beginn der Störung mit schrittweiser Verschlechterung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57440" y="1066680"/>
            <a:ext cx="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1040" y="2560680"/>
            <a:ext cx="218124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die kognitiven Beeinträchtigungen ungleichmäßig, so dass Gedächtnisverlust, intellektuelle Beeinträchtigungen und neurologische Herdzeichen auftreten könn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6360" y="3827520"/>
            <a:ext cx="2181240" cy="1189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usätzliche Symptome wie Hypertonie, Karotisgeräusche, Affektlabilität, depressive Stimmung, Weinen oder unbeherrschtes Lachen, Persönlichkeitsveränderungen mit Apathie oder Enthemmung oder einer Zuspitzung früherer Persönlichkeitszüge sind nicht selten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e CCT-Untersuchung kann in manchen Fällen die Diagnose absicher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24120" y="5527800"/>
            <a:ext cx="2181240" cy="215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der Beginn der Störung aku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29160" y="6156360"/>
            <a:ext cx="2181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r der Beginn der Störung allmählicher, nach mehreren ischämischen Episo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4120" y="6908760"/>
            <a:ext cx="21812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bei alzheinerähnlichem Erscheinungsbild ischämische Herde im Marklager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4120" y="7851600"/>
            <a:ext cx="21812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eine Kombination kortikaler und subkortikaler Anteile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3840" y="5460840"/>
            <a:ext cx="1290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skuläre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9" idx="2"/>
            <a:endCxn id="141" idx="0"/>
          </p:cNvCxnSpPr>
          <p:nvPr/>
        </p:nvCxnSpPr>
        <p:spPr>
          <a:xfrm>
            <a:off x="1671120" y="2045880"/>
            <a:ext cx="108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1" idx="2"/>
            <a:endCxn id="142" idx="0"/>
          </p:cNvCxnSpPr>
          <p:nvPr/>
        </p:nvCxnSpPr>
        <p:spPr>
          <a:xfrm flipH="1">
            <a:off x="1666080" y="3270240"/>
            <a:ext cx="5400" cy="55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2" idx="2"/>
            <a:endCxn id="147" idx="0"/>
          </p:cNvCxnSpPr>
          <p:nvPr/>
        </p:nvCxnSpPr>
        <p:spPr>
          <a:xfrm>
            <a:off x="1666440" y="5025960"/>
            <a:ext cx="3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3"/>
            <a:endCxn id="143" idx="1"/>
          </p:cNvCxnSpPr>
          <p:nvPr/>
        </p:nvCxnSpPr>
        <p:spPr>
          <a:xfrm>
            <a:off x="2323800" y="5638320"/>
            <a:ext cx="130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071960" y="4670280"/>
            <a:ext cx="1290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skuläre Demenz mit akutem Begi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3" idx="0"/>
            <a:endCxn id="152" idx="2"/>
          </p:cNvCxnSpPr>
          <p:nvPr/>
        </p:nvCxnSpPr>
        <p:spPr>
          <a:xfrm flipV="1">
            <a:off x="4714560" y="5157360"/>
            <a:ext cx="396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011240" y="6143760"/>
            <a:ext cx="129060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infarkt-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4" idx="1"/>
            <a:endCxn id="154" idx="3"/>
          </p:cNvCxnSpPr>
          <p:nvPr/>
        </p:nvCxnSpPr>
        <p:spPr>
          <a:xfrm flipH="1" flipV="1">
            <a:off x="2311200" y="6320880"/>
            <a:ext cx="13183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3" idx="2"/>
            <a:endCxn id="144" idx="0"/>
          </p:cNvCxnSpPr>
          <p:nvPr/>
        </p:nvCxnSpPr>
        <p:spPr>
          <a:xfrm>
            <a:off x="4714560" y="5748120"/>
            <a:ext cx="5400" cy="4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011240" y="6908760"/>
            <a:ext cx="1290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kortikale vaskuläre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45" idx="1"/>
            <a:endCxn id="157" idx="3"/>
          </p:cNvCxnSpPr>
          <p:nvPr/>
        </p:nvCxnSpPr>
        <p:spPr>
          <a:xfrm flipH="1">
            <a:off x="2311200" y="7142040"/>
            <a:ext cx="1313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1011240" y="7783560"/>
            <a:ext cx="1290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.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mischte vaskuläre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44" idx="2"/>
            <a:endCxn id="145" idx="0"/>
          </p:cNvCxnSpPr>
          <p:nvPr/>
        </p:nvCxnSpPr>
        <p:spPr>
          <a:xfrm flipH="1">
            <a:off x="4714200" y="6499080"/>
            <a:ext cx="54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5" idx="2"/>
            <a:endCxn id="146" idx="0"/>
          </p:cNvCxnSpPr>
          <p:nvPr/>
        </p:nvCxnSpPr>
        <p:spPr>
          <a:xfrm>
            <a:off x="4714560" y="7373520"/>
            <a:ext cx="108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6" idx="1"/>
            <a:endCxn id="159" idx="3"/>
          </p:cNvCxnSpPr>
          <p:nvPr/>
        </p:nvCxnSpPr>
        <p:spPr>
          <a:xfrm flipH="1">
            <a:off x="2311200" y="8022960"/>
            <a:ext cx="131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4073400" y="8545680"/>
            <a:ext cx="12906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1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nstige vaskuläre Demen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6" idx="2"/>
            <a:endCxn id="163" idx="0"/>
          </p:cNvCxnSpPr>
          <p:nvPr/>
        </p:nvCxnSpPr>
        <p:spPr>
          <a:xfrm>
            <a:off x="4714560" y="8194680"/>
            <a:ext cx="54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673280" y="2046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6800" y="5025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3280" y="3270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14920" y="5313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4160" y="5424480"/>
            <a:ext cx="457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62400" y="61135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4920" y="5748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2840" y="6499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2840" y="7386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2400" y="6908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62400" y="7808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2840" y="8194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9400" y="2685960"/>
            <a:ext cx="21528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andere Demenz verursachende Erkrankungen anhand der Seiten 48 – 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1" idx="3"/>
            <a:endCxn id="177" idx="1"/>
          </p:cNvCxnSpPr>
          <p:nvPr/>
        </p:nvCxnSpPr>
        <p:spPr>
          <a:xfrm>
            <a:off x="2762280" y="2916360"/>
            <a:ext cx="12578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9" idx="3"/>
            <a:endCxn id="177" idx="0"/>
          </p:cNvCxnSpPr>
          <p:nvPr/>
        </p:nvCxnSpPr>
        <p:spPr>
          <a:xfrm>
            <a:off x="2762280" y="1874520"/>
            <a:ext cx="2334240" cy="81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2" idx="3"/>
            <a:endCxn id="177" idx="2"/>
          </p:cNvCxnSpPr>
          <p:nvPr/>
        </p:nvCxnSpPr>
        <p:spPr>
          <a:xfrm flipV="1">
            <a:off x="2757240" y="3151080"/>
            <a:ext cx="2338920" cy="127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57600" y="4213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7600" y="2705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57600" y="1660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5200" y="687240"/>
            <a:ext cx="527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: Liegt eine Demenz bei sonstigen andernorts klassifizierten Krankheiten vor (F02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1040" y="1697040"/>
            <a:ext cx="196200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en überwiegend Frontalhirnsymptome mit Euphorie, emotionaler Verflachung und Vergröberung im sozialen Verhalten, Enthemmung und entweder Apathie und Ruhelosigkeit bei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VDS14/12, 13,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33600" y="1066680"/>
            <a:ext cx="0" cy="63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6560" y="1819440"/>
            <a:ext cx="140652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ten Verhaltensstörungen im allgemeinen vor offensichtlichen Gedächtnisstörungen 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43040" y="1960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32440" y="1812960"/>
            <a:ext cx="1676160" cy="70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0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Morbus Pick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7" idx="3"/>
            <a:endCxn id="189" idx="1"/>
          </p:cNvCxnSpPr>
          <p:nvPr/>
        </p:nvCxnSpPr>
        <p:spPr>
          <a:xfrm>
            <a:off x="2543040" y="2174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9" idx="3"/>
            <a:endCxn id="191" idx="1"/>
          </p:cNvCxnSpPr>
          <p:nvPr/>
        </p:nvCxnSpPr>
        <p:spPr>
          <a:xfrm>
            <a:off x="4482720" y="2174400"/>
            <a:ext cx="5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483080" y="1960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040" y="3067200"/>
            <a:ext cx="196200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eine rasch fortschreitende (Monate bis zu zwei Jahre) Demenz, mit vielen neurologischen Symptomen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s kommt gewöhnlich zu spastischen Lähmungen der Extremitäten, Tremor, Rigor, choreatisch-athetotischen Bewegungen, Ataxie usw. 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7" idx="2"/>
            <a:endCxn id="195" idx="0"/>
          </p:cNvCxnSpPr>
          <p:nvPr/>
        </p:nvCxnSpPr>
        <p:spPr>
          <a:xfrm>
            <a:off x="1561680" y="265104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562040" y="2651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0240" y="3059280"/>
            <a:ext cx="1590840" cy="10674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 charakteristisches EEG kann die Krankheit bestätigen. Außerdem sprechen eine rasch fortschreitende Demenz und eine Erkrankung des pyramidalen und extrapyramidalen Systems dafü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35680" y="3174840"/>
            <a:ext cx="167616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Creutzfeldt-Jacob-Krankhei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5" idx="3"/>
            <a:endCxn id="198" idx="1"/>
          </p:cNvCxnSpPr>
          <p:nvPr/>
        </p:nvCxnSpPr>
        <p:spPr>
          <a:xfrm flipV="1">
            <a:off x="2543040" y="3596760"/>
            <a:ext cx="4579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8" idx="3"/>
            <a:endCxn id="199" idx="1"/>
          </p:cNvCxnSpPr>
          <p:nvPr/>
        </p:nvCxnSpPr>
        <p:spPr>
          <a:xfrm>
            <a:off x="4591080" y="3596760"/>
            <a:ext cx="435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543040" y="3382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3382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040" y="4610160"/>
            <a:ext cx="1962000" cy="94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ten bereits in der Frühform der Erkrankung choreiforme Bewegungsstörungen auf, und ist die Demenz charakterisiert durcheine vorwiegende Beteiligung der Frontalhirnfunktionen, bei länger relativ gut erhaltenem Gedächtni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76560" y="4665600"/>
            <a:ext cx="167652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2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Huntington- Krankhei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5" idx="2"/>
            <a:endCxn id="204" idx="0"/>
          </p:cNvCxnSpPr>
          <p:nvPr/>
        </p:nvCxnSpPr>
        <p:spPr>
          <a:xfrm>
            <a:off x="1561680" y="4142880"/>
            <a:ext cx="108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3"/>
            <a:endCxn id="205" idx="1"/>
          </p:cNvCxnSpPr>
          <p:nvPr/>
        </p:nvCxnSpPr>
        <p:spPr>
          <a:xfrm>
            <a:off x="2543040" y="5087520"/>
            <a:ext cx="524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62040" y="413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43040" y="4873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1040" y="6019920"/>
            <a:ext cx="19620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t die Demenz in einem sehr schweren Spätstadium der Parkinsonschen Krankheit 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95640" y="5827680"/>
            <a:ext cx="167652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Parkinson- Krankhei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04" idx="2"/>
            <a:endCxn id="210" idx="0"/>
          </p:cNvCxnSpPr>
          <p:nvPr/>
        </p:nvCxnSpPr>
        <p:spPr>
          <a:xfrm>
            <a:off x="1561680" y="5564160"/>
            <a:ext cx="108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10" idx="3"/>
            <a:endCxn id="211" idx="1"/>
          </p:cNvCxnSpPr>
          <p:nvPr/>
        </p:nvCxnSpPr>
        <p:spPr>
          <a:xfrm flipV="1">
            <a:off x="2542680" y="6249240"/>
            <a:ext cx="5439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562040" y="5564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43040" y="60390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1040" y="7086600"/>
            <a:ext cx="196200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t die Demenz in einem Spätstadium einer HIV-Infektion auf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5640" y="6837480"/>
            <a:ext cx="167652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Krankhei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rch HIV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0" idx="2"/>
            <a:endCxn id="216" idx="0"/>
          </p:cNvCxnSpPr>
          <p:nvPr/>
        </p:nvCxnSpPr>
        <p:spPr>
          <a:xfrm>
            <a:off x="1561680" y="6484680"/>
            <a:ext cx="1080" cy="60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6" idx="3"/>
            <a:endCxn id="217" idx="1"/>
          </p:cNvCxnSpPr>
          <p:nvPr/>
        </p:nvCxnSpPr>
        <p:spPr>
          <a:xfrm>
            <a:off x="2542680" y="7257600"/>
            <a:ext cx="543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562040" y="6485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43040" y="7045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0720" y="7923240"/>
            <a:ext cx="1676520" cy="945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2.8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nz bei sonstigen, näher bezeichneten, anderorts klassifizierten Krankhei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16" idx="2"/>
            <a:endCxn id="222" idx="0"/>
          </p:cNvCxnSpPr>
          <p:nvPr/>
        </p:nvCxnSpPr>
        <p:spPr>
          <a:xfrm flipH="1">
            <a:off x="1558080" y="7429680"/>
            <a:ext cx="3960" cy="48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1558800" y="74296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86280" y="7985160"/>
            <a:ext cx="167616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3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cht näher bezeichnete Demenz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(Es empfiehlt sich eine weitere Absicherung dieser Diagnose mittels ICD-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2" idx="3"/>
            <a:endCxn id="225" idx="1"/>
          </p:cNvCxnSpPr>
          <p:nvPr/>
        </p:nvCxnSpPr>
        <p:spPr>
          <a:xfrm>
            <a:off x="2406240" y="8407080"/>
            <a:ext cx="670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2397240" y="81932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2360" y="687240"/>
            <a:ext cx="322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: Liegt eine leichte kognitive Störung vor (F06.7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" y="135396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6960" y="1574640"/>
            <a:ext cx="29415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lagt der Patient über eine zunehmende Beeinträchtigung kognitiver Funktionen wie Gedächtnisprobleme, Vergesslichkeit, lern- oder Konzentrationsschwierigkeit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4760" y="4343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6960" y="2774880"/>
            <a:ext cx="294156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igen Testuntersuchungen in der Regel normwidrige Wer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6960" y="3755880"/>
            <a:ext cx="294156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st keines der Symptome schwerwiegend genug, dass die Diagnosen Demenz (F00 – F03), organisch-amnestisches Syndrom (F04) oder Delir (F05) gestellt werden könn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gl. Seiten 41 – 4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36680" y="4975200"/>
            <a:ext cx="167652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06.7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chte kognitive Stö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5" idx="2"/>
            <a:endCxn id="236" idx="0"/>
          </p:cNvCxnSpPr>
          <p:nvPr/>
        </p:nvCxnSpPr>
        <p:spPr>
          <a:xfrm>
            <a:off x="2168280" y="4343040"/>
            <a:ext cx="684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4" idx="2"/>
            <a:endCxn id="235" idx="0"/>
          </p:cNvCxnSpPr>
          <p:nvPr/>
        </p:nvCxnSpPr>
        <p:spPr>
          <a:xfrm>
            <a:off x="2168280" y="3117960"/>
            <a:ext cx="1080" cy="63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2"/>
            <a:endCxn id="234" idx="0"/>
          </p:cNvCxnSpPr>
          <p:nvPr/>
        </p:nvCxnSpPr>
        <p:spPr>
          <a:xfrm>
            <a:off x="2168280" y="2039760"/>
            <a:ext cx="108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168640" y="2039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74760" y="31179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5:59:00Z</dcterms:created>
  <dc:creator>stefan holzer</dc:creator>
  <dc:description/>
  <dc:language>en-US</dc:language>
  <cp:lastModifiedBy>Dr. Sulz</cp:lastModifiedBy>
  <dcterms:modified xsi:type="dcterms:W3CDTF">2006-02-12T06:43:23Z</dcterms:modified>
  <cp:revision>22</cp:revision>
  <dc:subject/>
  <dc:title>PowerPoint-Präsentation</dc:title>
</cp:coreProperties>
</file>